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15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12.jpeg" ContentType="image/jpeg"/>
  <Override PartName="/ppt/media/image28.wmf" ContentType="image/x-wmf"/>
  <Override PartName="/ppt/media/image37.jpeg" ContentType="image/jpeg"/>
  <Override PartName="/ppt/media/image45.jpeg" ContentType="image/jpeg"/>
  <Override PartName="/ppt/media/image4.wmf" ContentType="image/x-wmf"/>
  <Override PartName="/ppt/media/image8.jpeg" ContentType="image/jpeg"/>
  <Override PartName="/ppt/media/image39.jpeg" ContentType="image/jpeg"/>
  <Override PartName="/ppt/media/image46.jpeg" ContentType="image/jpeg"/>
  <Override PartName="/ppt/media/image9.wmf" ContentType="image/x-wmf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5DC-9685-426E-BDEC-A926DA75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C17-1754-4368-862A-AB08172D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894-D3BB-46C7-B4EE-A7E46781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0F0-18E6-4E27-9156-0853ED66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296F-886B-43A8-A431-E5ED43FD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42E4-4E66-4196-927F-50C46711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9090-9772-4437-8BC3-1EAF682E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2CED-59A6-46D5-B14A-4B30EBB9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1EDC-53D6-40FF-B16D-2359F7AF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E89F-3601-4FE7-BD65-961FA4F6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FEDA-B8BA-4D49-A0FB-B3C65448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C79-510D-4A1F-A5CC-7EC33F76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C46D-7798-4B38-85E3-E1F05AAC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9683-BE84-4DCF-9158-32A76332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E2C3-CC10-4163-B9A9-BCBC566B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0822-AF92-4755-806A-D470C4EE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A1EE-5EA5-4704-9A8E-AF88E32B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838-51EB-49BE-8B7B-08F0D29F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DBF6-94D3-4DC3-AC2F-A1C6A08A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A20-CDC6-49F6-927D-7AB5D1F8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B68-CD4B-489F-8073-F9E3C4D0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B499-3699-4099-9999-D17513FE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2E0-7D93-4722-BC7F-0BAC3AE9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08EE-E700-4E1B-9B3F-9A697163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9F14-7359-48FF-BE5E-3CC874467C5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626D-56EA-46A4-9D8B-AFA15B50F4C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g.wikipedia.org/wiki/&#1058;&#1091;&#1088;&#1089;&#1082;&#1080;_&#1077;&#1079;&#1080;&#1082;" TargetMode="External"/><Relationship Id="rId2" Type="http://schemas.openxmlformats.org/officeDocument/2006/relationships/hyperlink" Target="http://bg.wikipedia.org/wiki/&#1041;&#1098;&#1083;&#1075;&#1072;&#1088;&#1080;&#1103;" TargetMode="External"/><Relationship Id="rId3" Type="http://schemas.openxmlformats.org/officeDocument/2006/relationships/hyperlink" Target="http://bg.wikipedia.org/wiki/&#1042;&#1098;&#1079;&#1088;&#1072;&#1078;&#1076;&#1072;&#1085;&#1077;" TargetMode="External"/><Relationship Id="rId4" Type="http://schemas.openxmlformats.org/officeDocument/2006/relationships/hyperlink" Target="http://bg.wikipedia.org/w/index.php?title=&#1057;&#1090;&#1088;&#1086;&#1080;&#1090;&#1077;&#1083;&amp;action=edit&amp;redlink=1" TargetMode="External"/><Relationship Id="rId5" Type="http://schemas.openxmlformats.org/officeDocument/2006/relationships/hyperlink" Target="http://bg.wikipedia.org/wiki/&#1057;&#1082;&#1091;&#1083;&#1087;&#1090;&#1086;&#1088;" TargetMode="External"/><Relationship Id="rId6" Type="http://schemas.openxmlformats.org/officeDocument/2006/relationships/hyperlink" Target="http://bg.wikipedia.org/wiki/&#1044;&#1088;&#1103;&#1085;&#1086;&#1074;&#1086;" TargetMode="External"/><Relationship Id="rId7" Type="http://schemas.openxmlformats.org/officeDocument/2006/relationships/hyperlink" Target="http://bg.wikipedia.org/wiki/&#1058;&#1088;&#1103;&#1074;&#1085;&#1072;" TargetMode="External"/><Relationship Id="rId8" Type="http://schemas.openxmlformats.org/officeDocument/2006/relationships/hyperlink" Target="http://bg.wikipedia.org/wiki/&#1050;&#1086;&#1088;&#1095;&#1072;" TargetMode="External"/><Relationship Id="rId9" Type="http://schemas.openxmlformats.org/officeDocument/2006/relationships/hyperlink" Target="http://bg.wikipedia.org/wiki/&#1062;&#1098;&#1088;&#1082;&#1074;&#1072;" TargetMode="External"/><Relationship Id="rId10" Type="http://schemas.openxmlformats.org/officeDocument/2006/relationships/hyperlink" Target="http://bg.wikipedia.org/wiki/&#1050;&#1072;&#1084;&#1073;&#1072;&#1085;&#1072;&#1088;&#1080;&#1103;" TargetMode="External"/><Relationship Id="rId11" Type="http://schemas.openxmlformats.org/officeDocument/2006/relationships/hyperlink" Target="http://bg.wikipedia.org/wiki/&#1052;&#1086;&#1089;&#1090;" TargetMode="External"/><Relationship Id="rId12" Type="http://schemas.openxmlformats.org/officeDocument/2006/relationships/hyperlink" Target="http://bg.wikipedia.org/wiki/&#1041;&#1088;&#1072;&#1094;&#1080;&#1075;&#1086;&#1074;&#1086;" TargetMode="External"/><Relationship Id="rId13" Type="http://schemas.openxmlformats.org/officeDocument/2006/relationships/hyperlink" Target="http://bg.wikipedia.org/w/index.php?title=&#1050;&#1072;&#1083;&#1092;&#1072;&amp;action=edit&amp;redlink=1" TargetMode="External"/><Relationship Id="rId14" Type="http://schemas.openxmlformats.org/officeDocument/2006/relationships/hyperlink" Target="http://bg.wikipedia.org/wiki/&#1057;&#1090;&#1088;&#1086;&#1080;&#1090;&#1077;&#1083;&#1089;&#1090;&#1074;&#1086;" TargetMode="External"/><Relationship Id="rId15" Type="http://schemas.openxmlformats.org/officeDocument/2006/relationships/hyperlink" Target="http://bg.wikipedia.org/wiki/&#1045;&#1089;&#1085;&#1072;&#1092;" TargetMode="External"/><Relationship Id="rId16" Type="http://schemas.openxmlformats.org/officeDocument/2006/relationships/hyperlink" Target="http://bg.wikipedia.org/w/index.php?title=&#1052;&#1072;&#1081;&#1089;&#1090;&#1086;&#1088;&amp;action=edit&amp;redlink=1" TargetMode="External"/><Relationship Id="rId17" Type="http://schemas.openxmlformats.org/officeDocument/2006/relationships/hyperlink" Target="http://bg.wikipedia.org/wiki/&#1058;&#1091;&#1088;&#1089;&#1082;&#1080;_&#1077;&#1079;&#1080;&#1082;" TargetMode="External"/><Relationship Id="rId18" Type="http://schemas.openxmlformats.org/officeDocument/2006/relationships/hyperlink" Target="http://bg.wikipedia.org/wiki/&#1043;&#1088;&#1098;&#1094;&#1082;&#1080;_&#1077;&#1079;&#1080;&#1082;" TargetMode="External"/><Relationship Id="rId19" Type="http://schemas.openxmlformats.org/officeDocument/2006/relationships/hyperlink" Target="http://bg.wikipedia.org/wiki/&#1056;&#1091;&#1084;&#1098;&#1085;&#1089;&#1082;&#1080;_&#1077;&#1079;&#1080;&#1082;" TargetMode="External"/><Relationship Id="rId20" Type="http://schemas.openxmlformats.org/officeDocument/2006/relationships/hyperlink" Target="http://bg.wikipedia.org/wiki/&#1052;&#1086;&#1089;&#1090;" TargetMode="External"/><Relationship Id="rId21" Type="http://schemas.openxmlformats.org/officeDocument/2006/relationships/hyperlink" Target="http://bg.wikipedia.org/wiki/&#1054;&#1089;&#1084;&#1072;&#1085;&#1089;&#1082;&#1072;_&#1080;&#1084;&#1087;&#1077;&#1088;&#1080;&#1103;" TargetMode="External"/><Relationship Id="rId22" Type="http://schemas.openxmlformats.org/officeDocument/2006/relationships/image" Target="../media/image33.jpeg"/><Relationship Id="rId2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g.wikipedia.org/w/index.php?title=&#1057;&#1098;&#1086;&#1088;&#1098;&#1078;&#1077;&#1085;&#1080;&#1077;&amp;action=edit&amp;redlink=1" TargetMode="External"/><Relationship Id="rId2" Type="http://schemas.openxmlformats.org/officeDocument/2006/relationships/hyperlink" Target="http://bg.wikipedia.org/wiki/&#1058;&#1077;&#1084;&#1087;&#1077;&#1088;&#1072;&#1090;&#1091;&#1088;&#1072;" TargetMode="External"/><Relationship Id="rId3" Type="http://schemas.openxmlformats.org/officeDocument/2006/relationships/hyperlink" Target="http://bg.wikipedia.org/wiki/&#1041;&#1072;&#1082;&#1090;&#1077;&#1088;&#1080;&#1080;" TargetMode="External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g.wikipedia.org/wiki/&#1058;&#1077;&#1093;&#1085;&#1080;&#1095;&#1077;&#1089;&#1082;&#1072;_&#1085;&#1072;&#1091;&#1082;&#1072;" TargetMode="External"/><Relationship Id="rId2" Type="http://schemas.openxmlformats.org/officeDocument/2006/relationships/hyperlink" Target="http://bg.wikipedia.org/wiki/&#1048;&#1079;&#1082;&#1091;&#1089;&#1090;&#1074;&#1086;" TargetMode="External"/><Relationship Id="rId3" Type="http://schemas.openxmlformats.org/officeDocument/2006/relationships/hyperlink" Target="http://bg.wikipedia.org/wiki/&#1057;&#1075;&#1088;&#1072;&#1076;&#1072;" TargetMode="External"/><Relationship Id="rId4" Type="http://schemas.openxmlformats.org/officeDocument/2006/relationships/hyperlink" Target="http://bg.wikipedia.org/wiki/&#1057;&#1090;&#1088;&#1086;&#1080;&#1090;&#1077;&#1083;&#1089;&#1090;&#1074;&#1086;" TargetMode="External"/><Relationship Id="rId5" Type="http://schemas.openxmlformats.org/officeDocument/2006/relationships/hyperlink" Target="http://bg.wikipedia.org/wiki/&#1050;&#1086;&#1085;&#1089;&#1090;&#1088;&#1091;&#1082;&#1094;&#1080;&#1103;" TargetMode="External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С Г Р А Д И Т Е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минало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настояще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бъдеще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6000" y="5681520"/>
            <a:ext cx="42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ара Атанасова СОУ”Екзарх Антим І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ДВОРЕЦЪТ ВЪВ ВЕЛИКИ ПРЕСЛАВ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ТАДИОН ОТ РИМСКО ВРЕМ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БАЛДУИНОВАТА КУЛ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ЪЗРОЖДЕНСКА КЪЩ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2881080" cy="180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08000" y="3860640"/>
            <a:ext cx="2028960" cy="2232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932360" y="260280"/>
            <a:ext cx="2735280" cy="1571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435640" y="4508640"/>
            <a:ext cx="3095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ОЛЬО ФИЧЕТ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ольо Фичет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истинско име: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икола Иванов Фичев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, наричан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Уста Колю Фичет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от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турското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„уста“ - майстор, професор), е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българск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възрожденск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строите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архитект и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скулпто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роден в град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Дряново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през 1800 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станал сирак без баща на 3 години, едва 10-годишен той започва да учи занаят при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тревненскит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майстори дюлгери. На 17-годишна възраст се учи при майстори от западнобългарската строителна школа от град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Корч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как се дяла камъкът, а след това усвоява строежа на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църкв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камбанари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и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мостов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от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брациговскит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майстори. Още млад, 23 годишен, той е вече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калф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а на 36 години е общопризнат от целия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4"/>
              </a:rPr>
              <a:t>дюлгерск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5"/>
              </a:rPr>
              <a:t>еснаф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за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6"/>
              </a:rPr>
              <a:t>майсто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Знаел е отлично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7"/>
              </a:rPr>
              <a:t>турски език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, говорил е добре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8"/>
              </a:rPr>
              <a:t>гръцк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и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9"/>
              </a:rPr>
              <a:t>румънски език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. Известен е с това, че когато построил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0"/>
              </a:rPr>
              <a:t>мост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по време на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1"/>
              </a:rPr>
              <a:t>османското владичество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, при изпробването му легнал под него, за да гарантира за сигурността на преминаващите с живота с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2"/>
          <a:stretch/>
        </p:blipFill>
        <p:spPr>
          <a:xfrm>
            <a:off x="6804000" y="115920"/>
            <a:ext cx="15400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Къщата с маймунка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Покритият мост в Ловеч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Мостът край Бял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Чешма в Соколски манастир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Манастир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Църкв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92360" y="2708280"/>
            <a:ext cx="2376720" cy="1355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227640" y="260280"/>
            <a:ext cx="2089440" cy="1441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308720" y="2565360"/>
            <a:ext cx="1440000" cy="1800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4211640" y="47628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1763640" y="4508640"/>
            <a:ext cx="1513080" cy="2016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4788000" y="4437000"/>
            <a:ext cx="324468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ШИЯТ ГРАД В МИНАЛОТ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3665520" cy="3265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3881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4097520" cy="3600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859280" y="115920"/>
            <a:ext cx="4156200" cy="2938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292720" y="3429000"/>
            <a:ext cx="3522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3809880" cy="6105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2952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кво са сградите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градата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или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данието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е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съоръжени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трайно свързано със земята и предназначено да предпазва хора или предмети от атмосферните въздействия. Сградите могат да имат различна сложност - от прост навес, предпазващ от дъжда отделен човек, до болничен комплекс с регулирана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температура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, въздушни потоци, осветление, газово съдържание, движение на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бактерии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и частици, налягане на въздуха и човешка дейнос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164360" y="18900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7669080" y="5040360"/>
            <a:ext cx="1474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        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Архитектур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ова е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техническа наука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изкуство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за изграждане на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сгради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и други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строителни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конструкции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. Професията на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архитекта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обхваща различни дейности, свързани с проектирането и строителството на сгради или групи от сгради, както и на окръжаващото ги пространство, предназначено за обитаване или използване от хорат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380360" y="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7485120" y="5445000"/>
            <a:ext cx="16588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 Р А Д И Ц И 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ДЪРВЕНИ ПОСТРОЙ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ХРАМОВ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ДВОРЦ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ЦЪРКВ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3640" y="2421000"/>
            <a:ext cx="2808360" cy="2035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43640" y="2421000"/>
            <a:ext cx="2300400" cy="2928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788000" y="4508640"/>
            <a:ext cx="2074680" cy="1944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258920" y="4292640"/>
            <a:ext cx="280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КАКВО ПРЕДСТАВЛЯВА ПРОФЕСИЯТА НА</a:t>
            </a:r>
            <a:br>
              <a:rPr sz="1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АРХИТЕКТА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Работата на </a:t>
            </a:r>
            <a:r>
              <a:rPr b="0" i="1" lang="bg-BG" sz="1800" spc="-1" strike="noStrike">
                <a:solidFill>
                  <a:srgbClr val="003366"/>
                </a:solidFill>
                <a:latin typeface="Arial"/>
              </a:rPr>
              <a:t>архитекта</a:t>
            </a: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 включва някои от следните дейности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раждане на архитектурна иде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предварителни (прединвестиционни) и обемно-устройствени проучвания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изработване на инвестиционни проект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подготовка на тръжни книжа за избор на изпълнител на инвестиционни проект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съдействие на възложителя при реализация на проект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авторски надзор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експертни дейности и консултаци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изготвяне на екзекутивна документация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участие в процедури за въвеждане на обекти в експлоатация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ангажименти в рамките на гаранционните сроков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093080" y="11592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335720" y="335772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РХИТЕКТУРАТА ДНЕ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2592720" cy="1701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740720" y="404640"/>
            <a:ext cx="1055520" cy="1584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16000" y="2708280"/>
            <a:ext cx="1584360" cy="1182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635280" y="256536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7093080" y="5084640"/>
            <a:ext cx="1655640" cy="1247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508720" y="4797360"/>
            <a:ext cx="1199880" cy="1695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1042920" y="5013360"/>
            <a:ext cx="1800360" cy="1344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2987640" y="3933720"/>
            <a:ext cx="23050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АЙ- ИЗВЕСТНИТЕ СГРАДИ В СВЕТ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76720" y="2514600"/>
            <a:ext cx="259056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42920" y="3141720"/>
            <a:ext cx="1297080" cy="201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77080" y="2565360"/>
            <a:ext cx="18669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700360" y="4869000"/>
            <a:ext cx="2303280" cy="1800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580000" y="472428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СГРАДИТЕ НА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БЪДЕЩЕТ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168720" cy="2694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3559320" cy="324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84360" y="2205000"/>
            <a:ext cx="3746520" cy="2516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908000" y="4869000"/>
            <a:ext cx="29530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РАДИЦИИ В БЪЛГАРСКАТА АРХИТЕКТУР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рхитектурата заема важно място в културното развитие на народите, населявали българските земи. Територията на България е богата с разнообразни архитектурни паметници, построени от различни народи при различни епох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093080" y="5013360"/>
            <a:ext cx="16430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7:01:15Z</dcterms:created>
  <dc:creator>Home</dc:creator>
  <dc:description/>
  <dc:language>en-US</dc:language>
  <cp:lastModifiedBy>Home</cp:lastModifiedBy>
  <dcterms:modified xsi:type="dcterms:W3CDTF">2012-03-11T17:32:38Z</dcterms:modified>
  <cp:revision>8</cp:revision>
  <dc:subject/>
  <dc:title>С Г Р А Д И Т Е </dc:title>
</cp:coreProperties>
</file>